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43.jpeg" ContentType="image/jpeg"/>
  <Override PartName="/ppt/media/image45.png" ContentType="image/png"/>
  <Override PartName="/ppt/media/image44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13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usTReg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ptusTReg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OptusTRe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540C-C28E-4EB2-9AAF-96BA174D4CDF}" type="slidenum">
              <a:rPr b="0" lang="en-US" sz="1200" spc="-1" strike="noStrike">
                <a:solidFill>
                  <a:srgbClr val="000000"/>
                </a:solidFill>
                <a:latin typeface="OptusTRe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B88F-B749-45A4-A004-8C459C53A415}" type="slidenum">
              <a:rPr b="0" lang="en-US" sz="1200" spc="-1" strike="noStrike">
                <a:solidFill>
                  <a:srgbClr val="000000"/>
                </a:solidFill>
                <a:latin typeface="OptusTRe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A1B4-FD01-4357-A4E7-EFDDA325ED9C}" type="slidenum">
              <a:rPr b="0" lang="en-US" sz="1200" spc="-1" strike="noStrike">
                <a:solidFill>
                  <a:srgbClr val="000000"/>
                </a:solidFill>
                <a:latin typeface="OptusTRe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0845-4D94-47F6-B3E1-D802AFC13EEF}" type="slidenum">
              <a:rPr b="0" lang="en-US" sz="1200" spc="-1" strike="noStrike">
                <a:solidFill>
                  <a:srgbClr val="000000"/>
                </a:solidFill>
                <a:latin typeface="OptusTRe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8C19-0D57-4611-B77C-C82C82E4687F}" type="slidenum">
              <a:rPr b="0" lang="en-US" sz="1200" spc="-1" strike="noStrike">
                <a:solidFill>
                  <a:srgbClr val="000000"/>
                </a:solidFill>
                <a:latin typeface="OptusTRe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56EC-5FC3-4D0C-B797-20E7CDD309B1}" type="slidenum">
              <a:rPr b="0" lang="en-US" sz="1200" spc="-1" strike="noStrike">
                <a:solidFill>
                  <a:srgbClr val="000000"/>
                </a:solidFill>
                <a:latin typeface="OptusTRe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BAE0-EFE3-4A65-8DEA-852D2391C1E0}" type="slidenum">
              <a:rPr b="0" lang="en-US" sz="1200" spc="-1" strike="noStrike">
                <a:solidFill>
                  <a:srgbClr val="000000"/>
                </a:solidFill>
                <a:latin typeface="OptusTRe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C74D-4AE0-4A10-AB45-A11DD2815DED}" type="slidenum">
              <a:rPr b="0" lang="en-US" sz="1200" spc="-1" strike="noStrike">
                <a:solidFill>
                  <a:srgbClr val="000000"/>
                </a:solidFill>
                <a:latin typeface="OptusTRe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OptusTReg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AC0-6184-448D-B4A9-998BAF5C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194F-349C-4711-AD56-A639E15D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F1E5-0915-4A4C-8E32-54DF5E10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A8EB-67C0-4CEE-A72A-E3D37032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46B6-3333-4B26-B74F-5A05DE05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6994-DBA1-4B91-BBBD-B7B2580B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55B-59F4-4D64-AF0C-BCFEA83D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FF63-DF12-41D0-BAF1-CCEEFFAA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BE6-46A7-4E9C-838C-53D9F6F8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C63D-E1BB-490E-A719-DED75C9B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06B3-8D71-40FF-9E15-D3725D63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21B-5490-47DA-9C86-4EC1AC7E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usTReg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usTReg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usTReg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usTReg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usTReg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OptusTRe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usTReg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OptusTRe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usTReg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OptusTRe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usTReg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usTRe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5A13-BF69-4CA1-887C-FBB5E795F2C1}" type="slidenum">
              <a:rPr b="0" lang="en-US" sz="1400" spc="-1" strike="noStrike">
                <a:solidFill>
                  <a:srgbClr val="000000"/>
                </a:solidFill>
                <a:latin typeface="OptusTReg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OptusTRe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13.jpeg"/><Relationship Id="rId10" Type="http://schemas.openxmlformats.org/officeDocument/2006/relationships/image" Target="../media/image21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13.jpeg"/><Relationship Id="rId4" Type="http://schemas.openxmlformats.org/officeDocument/2006/relationships/image" Target="../media/image29.jpeg"/><Relationship Id="rId5" Type="http://schemas.openxmlformats.org/officeDocument/2006/relationships/image" Target="../media/image13.jpe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32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png"/><Relationship Id="rId10" Type="http://schemas.openxmlformats.org/officeDocument/2006/relationships/image" Target="../media/image37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png"/><Relationship Id="rId5" Type="http://schemas.openxmlformats.org/officeDocument/2006/relationships/image" Target="../media/image41.jpeg"/><Relationship Id="rId6" Type="http://schemas.openxmlformats.org/officeDocument/2006/relationships/image" Target="../media/image42.pn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pn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Socket"/>
              </a:rPr>
              <a:t>Aim:  What is the legacy of Ancient Greece?</a:t>
            </a:r>
            <a:br>
              <a:rPr sz="3600"/>
            </a:br>
            <a:r>
              <a:rPr b="0" lang="en-US" sz="3600" spc="-1" strike="noStrike">
                <a:solidFill>
                  <a:srgbClr val="a50021"/>
                </a:solidFill>
                <a:latin typeface="Socket"/>
              </a:rPr>
              <a:t>L28 Contributions of Greece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a50021"/>
                </a:solidFill>
                <a:latin typeface="Socket"/>
              </a:rPr>
              <a:t>Do Now:  Set up notebook page for today. Leave room to add to each section based on our discussions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OptusTRe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venn01"/>
          <p:cNvPicPr/>
          <p:nvPr/>
        </p:nvPicPr>
        <p:blipFill>
          <a:blip r:embed="rId2"/>
          <a:stretch/>
        </p:blipFill>
        <p:spPr>
          <a:xfrm>
            <a:off x="685800" y="1612800"/>
            <a:ext cx="7772400" cy="5058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657600" y="365760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•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Citizens 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control their own destiny.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993760" y="933480"/>
            <a:ext cx="320112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Government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4952880" y="2819520"/>
            <a:ext cx="2971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11240"/>
                <a:tab algn="l" pos="222120"/>
                <a:tab algn="l" pos="349200"/>
                <a:tab algn="l" pos="460440"/>
                <a:tab algn="l" pos="571680"/>
                <a:tab algn="l" pos="68256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•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We elect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representatives to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speak for us and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make laws.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990720" y="4191120"/>
            <a:ext cx="2971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11240"/>
                <a:tab algn="l" pos="222120"/>
                <a:tab algn="l" pos="349200"/>
                <a:tab algn="l" pos="460440"/>
                <a:tab algn="l" pos="571680"/>
                <a:tab algn="l" pos="68256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•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Only native-born     men could be citizens   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in Athens.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5562720" y="4114800"/>
            <a:ext cx="2971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11240"/>
                <a:tab algn="l" pos="222120"/>
                <a:tab algn="l" pos="349200"/>
                <a:tab algn="l" pos="460440"/>
                <a:tab algn="l" pos="571680"/>
                <a:tab algn="l" pos="68256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•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Today, women are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citizens, and people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from other countries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can become U.S.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citizens, too.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914400" y="2819520"/>
            <a:ext cx="2971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•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Citizens 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debated and voted        on every issue.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90" name="WordArt 16"/>
          <p:cNvSpPr txBox="1"/>
          <p:nvPr/>
        </p:nvSpPr>
        <p:spPr>
          <a:xfrm rot="19095000">
            <a:off x="758880" y="2131560"/>
            <a:ext cx="1447920" cy="514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vantGarGotItcT"/>
              </a:rPr>
              <a:t>Ancient Greek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vantGarGotItcT"/>
              <a:ea typeface="AvantGarGotIt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vantGarGotItcT"/>
              </a:rPr>
              <a:t>Democracy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vantGarGotItcT"/>
              <a:ea typeface="AvantGarGotItcT"/>
            </a:endParaRPr>
          </a:p>
        </p:txBody>
      </p:sp>
      <p:sp>
        <p:nvSpPr>
          <p:cNvPr id="91" name="WordArt 17"/>
          <p:cNvSpPr txBox="1"/>
          <p:nvPr/>
        </p:nvSpPr>
        <p:spPr>
          <a:xfrm rot="2437800">
            <a:off x="6918120" y="2103120"/>
            <a:ext cx="1600200" cy="514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632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vantGarGotItcT"/>
              </a:rPr>
              <a:t>Modern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vantGarGotItcT"/>
              <a:ea typeface="AvantGarGotIt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vantGarGotItcT"/>
              </a:rPr>
              <a:t>Democracy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vantGarGotItcT"/>
              <a:ea typeface="AvantGarGotIt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39621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 </a:t>
            </a:r>
            <a:r>
              <a:rPr b="0" lang="en-US" sz="3000" spc="-1" strike="noStrike">
                <a:solidFill>
                  <a:srgbClr val="3333cc"/>
                </a:solidFill>
                <a:latin typeface="OptusTReg"/>
              </a:rPr>
              <a:t>Literature</a:t>
            </a:r>
            <a:r>
              <a:rPr b="0" lang="en-US" sz="3000" spc="-1" strike="noStrike">
                <a:solidFill>
                  <a:srgbClr val="800000"/>
                </a:solidFill>
                <a:latin typeface="OptusTReg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OptusTReg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Drama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OptusTReg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Comedy, Tragedy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Historical writing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154600" y="933480"/>
            <a:ext cx="494316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Language and Literature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5410080" y="1447920"/>
            <a:ext cx="3581640" cy="5672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333cc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OptusTReg"/>
              </a:rPr>
              <a:t>Thucydides</a:t>
            </a:r>
            <a:r>
              <a:rPr b="1" lang="en-US" sz="2000" spc="-1" strike="noStrike">
                <a:solidFill>
                  <a:srgbClr val="000000"/>
                </a:solidFill>
                <a:latin typeface="OptusTReg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 wrote only one 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 book; its modern 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    title is th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OptusTReg"/>
              </a:rPr>
              <a:t>History of the 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OptusTReg"/>
              </a:rPr>
              <a:t>Peloponnesian War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marL="225360" indent="-225360">
              <a:buClr>
                <a:srgbClr val="0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one of the first true historians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lvl="1" marL="677880" indent="-220680">
              <a:lnSpc>
                <a:spcPct val="100000"/>
              </a:lnSpc>
              <a:buClr>
                <a:srgbClr val="0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usTReg"/>
              </a:rPr>
              <a:t>he created the first scientific approach to history</a:t>
            </a:r>
            <a:endParaRPr b="0" lang="en-US" sz="1800" spc="-1" strike="noStrike">
              <a:solidFill>
                <a:srgbClr val="000000"/>
              </a:solidFill>
              <a:latin typeface="OptusTReg"/>
            </a:endParaRPr>
          </a:p>
          <a:p>
            <a:pPr lvl="1" marL="677880" indent="-220680">
              <a:lnSpc>
                <a:spcPct val="100000"/>
              </a:lnSpc>
              <a:buClr>
                <a:srgbClr val="0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usTReg"/>
              </a:rPr>
              <a:t>consulted written documents and interviewed participants in the events that he recorded</a:t>
            </a:r>
            <a:endParaRPr b="0" lang="en-US" sz="1800" spc="-1" strike="noStrike">
              <a:solidFill>
                <a:srgbClr val="000000"/>
              </a:solidFill>
              <a:latin typeface="OptusTReg"/>
            </a:endParaRPr>
          </a:p>
          <a:p>
            <a:pPr marL="225360" indent="-225360">
              <a:buClr>
                <a:srgbClr val="0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Quote: "The strong do what they can and the weak suffer</a:t>
            </a:r>
            <a:r>
              <a:rPr b="0" lang="en-US" sz="2100" spc="-1" strike="noStrike">
                <a:solidFill>
                  <a:srgbClr val="000000"/>
                </a:solidFill>
                <a:latin typeface="OptusTReg"/>
              </a:rPr>
              <a:t> what they must."</a:t>
            </a:r>
            <a:endParaRPr b="0" lang="en-US" sz="21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52280" y="3251160"/>
            <a:ext cx="5105520" cy="3448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2120" indent="-222120">
              <a:buClr>
                <a:srgbClr val="3333cc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OptusTReg"/>
              </a:rPr>
              <a:t>Herodotus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 is known as the 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         “father of history.”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marL="222120" indent="-222120">
              <a:buClr>
                <a:srgbClr val="0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He is almost exclusively known for writing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OptusTReg"/>
              </a:rPr>
              <a:t>The Histories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, a collection of 'inquiries' about the different places and people he met during travels around the </a:t>
            </a:r>
            <a:r>
              <a:rPr b="0" lang="en-US" sz="2000" spc="-1" strike="noStrike">
                <a:solidFill>
                  <a:srgbClr val="3333cc"/>
                </a:solidFill>
                <a:latin typeface="OptusTReg"/>
              </a:rPr>
              <a:t>Mediterranean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 and into </a:t>
            </a:r>
            <a:r>
              <a:rPr b="0" lang="en-US" sz="2000" spc="-1" strike="noStrike">
                <a:solidFill>
                  <a:srgbClr val="3333cc"/>
                </a:solidFill>
                <a:latin typeface="OptusTReg"/>
              </a:rPr>
              <a:t>Mesopotamia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marL="222120" indent="-222120">
              <a:buClr>
                <a:srgbClr val="0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The unifying theme of his work is the conflict between the ancient </a:t>
            </a:r>
            <a:r>
              <a:rPr b="0" lang="en-US" sz="2000" spc="-1" strike="noStrike">
                <a:solidFill>
                  <a:srgbClr val="3333cc"/>
                </a:solidFill>
                <a:latin typeface="OptusTReg"/>
              </a:rPr>
              <a:t>Greeks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 and the </a:t>
            </a:r>
            <a:r>
              <a:rPr b="0" lang="en-US" sz="2000" spc="-1" strike="noStrike">
                <a:solidFill>
                  <a:srgbClr val="3333cc"/>
                </a:solidFill>
                <a:latin typeface="OptusTReg"/>
              </a:rPr>
              <a:t>Persians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97" name="Picture 9" descr="thucydides"/>
          <p:cNvPicPr/>
          <p:nvPr/>
        </p:nvPicPr>
        <p:blipFill>
          <a:blip r:embed="rId4"/>
          <a:srcRect l="0" t="5282" r="0" b="0"/>
          <a:stretch/>
        </p:blipFill>
        <p:spPr>
          <a:xfrm>
            <a:off x="7772400" y="990720"/>
            <a:ext cx="1219320" cy="1143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98" name="Picture 14" descr="Herodotus"/>
          <p:cNvPicPr/>
          <p:nvPr/>
        </p:nvPicPr>
        <p:blipFill>
          <a:blip r:embed="rId5"/>
          <a:stretch/>
        </p:blipFill>
        <p:spPr>
          <a:xfrm>
            <a:off x="4114800" y="2438280"/>
            <a:ext cx="1089000" cy="13716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OptusTReg"/>
              </a:rPr>
              <a:t>The word </a:t>
            </a:r>
            <a:r>
              <a:rPr b="0" i="1" lang="en-US" sz="3000" spc="-1" strike="noStrike">
                <a:solidFill>
                  <a:srgbClr val="3333cc"/>
                </a:solidFill>
                <a:latin typeface="OptusTReg"/>
              </a:rPr>
              <a:t>architecture</a:t>
            </a:r>
            <a:r>
              <a:rPr b="0" lang="en-US" sz="3000" spc="-1" strike="noStrike">
                <a:solidFill>
                  <a:srgbClr val="800000"/>
                </a:solidFill>
                <a:latin typeface="OptusTReg"/>
              </a:rPr>
              <a:t> comes from the </a:t>
            </a:r>
            <a:r>
              <a:rPr b="0" lang="en-US" sz="30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3000" spc="-1" strike="noStrike">
                <a:solidFill>
                  <a:srgbClr val="800000"/>
                </a:solidFill>
                <a:latin typeface="OptusTReg"/>
              </a:rPr>
              <a:t> word, </a:t>
            </a:r>
            <a:r>
              <a:rPr b="0" i="1" lang="en-US" sz="3000" spc="-1" strike="noStrike">
                <a:solidFill>
                  <a:srgbClr val="800000"/>
                </a:solidFill>
                <a:latin typeface="OptusTReg"/>
              </a:rPr>
              <a:t>arkhitekton </a:t>
            </a:r>
            <a:r>
              <a:rPr b="0" lang="en-US" sz="3000" spc="-1" strike="noStrike">
                <a:solidFill>
                  <a:srgbClr val="800000"/>
                </a:solidFill>
                <a:latin typeface="OptusTReg"/>
              </a:rPr>
              <a:t>which means "master builder," from </a:t>
            </a:r>
            <a:r>
              <a:rPr b="0" i="1" lang="en-US" sz="3000" spc="-1" strike="noStrike">
                <a:solidFill>
                  <a:srgbClr val="800000"/>
                </a:solidFill>
                <a:latin typeface="OptusTReg"/>
              </a:rPr>
              <a:t>arkhi-</a:t>
            </a:r>
            <a:r>
              <a:rPr b="0" lang="en-US" sz="3000" spc="-1" strike="noStrike">
                <a:solidFill>
                  <a:srgbClr val="800000"/>
                </a:solidFill>
                <a:latin typeface="OptusTReg"/>
              </a:rPr>
              <a:t> "chief" + </a:t>
            </a:r>
            <a:r>
              <a:rPr b="0" i="1" lang="en-US" sz="3000" spc="-1" strike="noStrike">
                <a:solidFill>
                  <a:srgbClr val="800000"/>
                </a:solidFill>
                <a:latin typeface="OptusTReg"/>
              </a:rPr>
              <a:t>tekton</a:t>
            </a:r>
            <a:r>
              <a:rPr b="0" lang="en-US" sz="3000" spc="-1" strike="noStrike">
                <a:solidFill>
                  <a:srgbClr val="800000"/>
                </a:solidFill>
                <a:latin typeface="OptusTReg"/>
              </a:rPr>
              <a:t> "builder, carpenter."</a:t>
            </a:r>
            <a:endParaRPr b="0" lang="en-US" sz="30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OptusTReg"/>
              </a:rPr>
              <a:t>The </a:t>
            </a:r>
            <a:r>
              <a:rPr b="0" lang="en-US" sz="3000" spc="-1" strike="noStrike">
                <a:solidFill>
                  <a:srgbClr val="3333cc"/>
                </a:solidFill>
                <a:latin typeface="OptusTReg"/>
              </a:rPr>
              <a:t>Greeks</a:t>
            </a:r>
            <a:r>
              <a:rPr b="0" lang="en-US" sz="3000" spc="-1" strike="noStrike">
                <a:solidFill>
                  <a:srgbClr val="800000"/>
                </a:solidFill>
                <a:latin typeface="OptusTReg"/>
              </a:rPr>
              <a:t> used:</a:t>
            </a:r>
            <a:endParaRPr b="0" lang="en-US" sz="3000" spc="-1" strike="noStrike">
              <a:solidFill>
                <a:srgbClr val="000000"/>
              </a:solidFill>
              <a:latin typeface="OptusTReg"/>
            </a:endParaRPr>
          </a:p>
          <a:p>
            <a:pPr lvl="1" marL="635040" indent="-1778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 </a:t>
            </a:r>
            <a:r>
              <a:rPr b="0" lang="en-US" sz="2600" spc="-1" strike="noStrike">
                <a:solidFill>
                  <a:srgbClr val="3333cc"/>
                </a:solidFill>
                <a:latin typeface="OptusTReg"/>
              </a:rPr>
              <a:t>columns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 to make their 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       </a:t>
            </a:r>
            <a:r>
              <a:rPr b="0" lang="en-US" sz="2600" spc="-1" strike="noStrike">
                <a:solidFill>
                  <a:srgbClr val="3333cc"/>
                </a:solidFill>
                <a:latin typeface="OptusTReg"/>
              </a:rPr>
              <a:t>temples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 balanced and 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          stately</a:t>
            </a:r>
            <a:endParaRPr b="0" lang="en-US" sz="2600" spc="-1" strike="noStrike">
              <a:solidFill>
                <a:srgbClr val="000000"/>
              </a:solidFill>
              <a:latin typeface="OptusTReg"/>
            </a:endParaRPr>
          </a:p>
          <a:p>
            <a:pPr lvl="1" marL="635040" indent="-1778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800000"/>
                </a:solidFill>
                <a:latin typeface="OptusTReg"/>
              </a:rPr>
              <a:t> </a:t>
            </a:r>
            <a:r>
              <a:rPr b="0" i="1" lang="en-US" sz="2600" spc="-1" strike="noStrike">
                <a:solidFill>
                  <a:srgbClr val="3333cc"/>
                </a:solidFill>
                <a:latin typeface="OptusTReg"/>
              </a:rPr>
              <a:t>pediments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, the triangular 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         shapes where roof lines 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           come together</a:t>
            </a:r>
            <a:endParaRPr b="0" lang="en-US" sz="2600" spc="-1" strike="noStrike">
              <a:solidFill>
                <a:srgbClr val="000000"/>
              </a:solidFill>
              <a:latin typeface="OptusTReg"/>
            </a:endParaRPr>
          </a:p>
          <a:p>
            <a:pPr lvl="1" marL="635040" indent="-1778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decorative bands called 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          </a:t>
            </a:r>
            <a:r>
              <a:rPr b="0" i="1" lang="en-US" sz="2600" spc="-1" strike="noStrike">
                <a:solidFill>
                  <a:srgbClr val="3333cc"/>
                </a:solidFill>
                <a:latin typeface="OptusTReg"/>
              </a:rPr>
              <a:t>friezes</a:t>
            </a:r>
            <a:endParaRPr b="0" lang="en-US" sz="2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968200" y="933480"/>
            <a:ext cx="315720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Architecture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102" name="Picture 14" descr="parth_ext2"/>
          <p:cNvPicPr/>
          <p:nvPr/>
        </p:nvPicPr>
        <p:blipFill>
          <a:blip r:embed="rId2"/>
          <a:stretch/>
        </p:blipFill>
        <p:spPr>
          <a:xfrm>
            <a:off x="4572000" y="3124080"/>
            <a:ext cx="4419720" cy="33577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1"/>
          <p:cNvSpPr/>
          <p:nvPr/>
        </p:nvSpPr>
        <p:spPr>
          <a:xfrm>
            <a:off x="6400800" y="2232000"/>
            <a:ext cx="2590920" cy="122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usTReg"/>
              </a:rPr>
              <a:t>churches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usTReg"/>
              </a:rPr>
              <a:t>- First Presbyterian Church of Cranbury, New Jersey -</a:t>
            </a:r>
            <a:endParaRPr b="0" lang="en-US" sz="18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Greek styles are still used in many buildings today.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968200" y="933480"/>
            <a:ext cx="315720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Architecture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107" name="Picture 17" descr="White House"/>
          <p:cNvPicPr/>
          <p:nvPr/>
        </p:nvPicPr>
        <p:blipFill>
          <a:blip r:embed="rId3"/>
          <a:stretch/>
        </p:blipFill>
        <p:spPr>
          <a:xfrm>
            <a:off x="380880" y="2133720"/>
            <a:ext cx="1981440" cy="14526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08" name="Picture 20" descr="This Week's Image"/>
          <p:cNvPicPr/>
          <p:nvPr/>
        </p:nvPicPr>
        <p:blipFill>
          <a:blip r:embed="rId4"/>
          <a:stretch/>
        </p:blipFill>
        <p:spPr>
          <a:xfrm>
            <a:off x="6172200" y="4038480"/>
            <a:ext cx="2514600" cy="16765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09" name="Text Box 21"/>
          <p:cNvSpPr/>
          <p:nvPr/>
        </p:nvSpPr>
        <p:spPr>
          <a:xfrm>
            <a:off x="0" y="3581280"/>
            <a:ext cx="2590920" cy="97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usTReg"/>
              </a:rPr>
              <a:t>government buildings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OptusTReg"/>
              </a:rPr>
              <a:t>- The White House -</a:t>
            </a:r>
            <a:endParaRPr b="0" lang="en-US" sz="18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6172200" y="5661000"/>
            <a:ext cx="2819520" cy="947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usTReg"/>
              </a:rPr>
              <a:t>schools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usTReg"/>
              </a:rPr>
              <a:t>- Johnson Hall at the University of Oregon -</a:t>
            </a:r>
            <a:endParaRPr b="0" lang="en-US" sz="18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111" name="Picture 24" descr="CranburyPres"/>
          <p:cNvPicPr/>
          <p:nvPr/>
        </p:nvPicPr>
        <p:blipFill>
          <a:blip r:embed="rId7"/>
          <a:stretch/>
        </p:blipFill>
        <p:spPr>
          <a:xfrm>
            <a:off x="4957920" y="2286000"/>
            <a:ext cx="1442880" cy="16002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12" name="Picture 33" descr="PUBLIClibnyc_lbr"/>
          <p:cNvPicPr/>
          <p:nvPr/>
        </p:nvPicPr>
        <p:blipFill>
          <a:blip r:embed="rId8"/>
          <a:srcRect l="6974" t="0" r="0" b="0"/>
          <a:stretch/>
        </p:blipFill>
        <p:spPr>
          <a:xfrm>
            <a:off x="152280" y="4975200"/>
            <a:ext cx="3048120" cy="17305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13" name="Text Box 34"/>
          <p:cNvSpPr/>
          <p:nvPr/>
        </p:nvSpPr>
        <p:spPr>
          <a:xfrm>
            <a:off x="609480" y="4670280"/>
            <a:ext cx="2819520" cy="673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usTReg"/>
              </a:rPr>
              <a:t>libraries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usTReg"/>
              </a:rPr>
              <a:t>- New York Public Library </a:t>
            </a:r>
            <a:endParaRPr b="0" lang="en-US" sz="18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114" name="Picture 37" descr="history_museum"/>
          <p:cNvPicPr/>
          <p:nvPr/>
        </p:nvPicPr>
        <p:blipFill>
          <a:blip r:embed="rId10"/>
          <a:stretch/>
        </p:blipFill>
        <p:spPr>
          <a:xfrm>
            <a:off x="3116160" y="2301840"/>
            <a:ext cx="1481400" cy="21938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15" name="Text Box 40"/>
          <p:cNvSpPr/>
          <p:nvPr/>
        </p:nvSpPr>
        <p:spPr>
          <a:xfrm>
            <a:off x="3657600" y="4495680"/>
            <a:ext cx="2209680" cy="1221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usTReg"/>
              </a:rPr>
              <a:t>museums</a:t>
            </a: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usTReg"/>
              </a:rPr>
              <a:t>- Carnegie Art Museum, Oxnard, CA -</a:t>
            </a:r>
            <a:endParaRPr b="0" lang="en-US" sz="1800" spc="-1" strike="noStrike">
              <a:solidFill>
                <a:srgbClr val="000000"/>
              </a:solidFill>
              <a:latin typeface="OptusTRe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    • 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The word, </a:t>
            </a:r>
            <a:r>
              <a:rPr b="0" i="1" lang="en-US" sz="2400" spc="-1" strike="noStrike">
                <a:solidFill>
                  <a:srgbClr val="3333cc"/>
                </a:solidFill>
                <a:latin typeface="OptusTReg"/>
              </a:rPr>
              <a:t>theater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, comes from the 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word </a:t>
            </a:r>
            <a:r>
              <a:rPr b="0" i="1" lang="en-US" sz="2400" spc="-1" strike="noStrike">
                <a:solidFill>
                  <a:srgbClr val="800000"/>
                </a:solidFill>
                <a:latin typeface="OptusTReg"/>
              </a:rPr>
              <a:t>theatron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, which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        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means "place for viewing," from 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        </a:t>
            </a:r>
            <a:r>
              <a:rPr b="0" i="1" lang="en-US" sz="2400" spc="-1" strike="noStrike">
                <a:solidFill>
                  <a:srgbClr val="800000"/>
                </a:solidFill>
                <a:latin typeface="OptusTReg"/>
              </a:rPr>
              <a:t>theasthai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"to behold" (cf. </a:t>
            </a:r>
            <a:r>
              <a:rPr b="0" i="1" lang="en-US" sz="2400" spc="-1" strike="noStrike">
                <a:solidFill>
                  <a:srgbClr val="800000"/>
                </a:solidFill>
                <a:latin typeface="OptusTReg"/>
              </a:rPr>
              <a:t>thea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"a 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        view," </a:t>
            </a:r>
            <a:r>
              <a:rPr b="0" i="1" lang="en-US" sz="2400" spc="-1" strike="noStrike">
                <a:solidFill>
                  <a:srgbClr val="800000"/>
                </a:solidFill>
                <a:latin typeface="OptusTReg"/>
              </a:rPr>
              <a:t>theates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"spectator") + 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i="1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i="1" lang="en-US" sz="2400" spc="-1" strike="noStrike">
                <a:solidFill>
                  <a:srgbClr val="800000"/>
                </a:solidFill>
                <a:latin typeface="OptusTReg"/>
              </a:rPr>
              <a:t>-tron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, suffix denoting place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    •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theaters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were built as 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        semicircles.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lvl="1" marL="731160" indent="-282960">
              <a:spcBef>
                <a:spcPts val="499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The rows of seats rose steeply from the stage so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      that everyone in the audience could see and 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    hear.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marL="335880" indent="-3358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These ideas influence the way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theater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are built today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340080" y="933480"/>
            <a:ext cx="250488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Theater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119" name="Picture 11" descr="theatron"/>
          <p:cNvPicPr/>
          <p:nvPr/>
        </p:nvPicPr>
        <p:blipFill>
          <a:blip r:embed="rId2"/>
          <a:srcRect l="0" t="0" r="0" b="13600"/>
          <a:stretch/>
        </p:blipFill>
        <p:spPr>
          <a:xfrm>
            <a:off x="6095880" y="4724280"/>
            <a:ext cx="2819520" cy="18748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20" name="Picture 15" descr="Hollywood Bowl"/>
          <p:cNvPicPr/>
          <p:nvPr/>
        </p:nvPicPr>
        <p:blipFill>
          <a:blip r:embed="rId3"/>
          <a:srcRect l="7913" t="5625" r="7638" b="11044"/>
          <a:stretch/>
        </p:blipFill>
        <p:spPr>
          <a:xfrm>
            <a:off x="228600" y="1811160"/>
            <a:ext cx="3733920" cy="24559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Greek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even invented special effects.  They used hoists to make people appear to fly.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They also created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scenery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that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revolved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, or turned.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 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-Perhaps the greatest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contributions to the theater are their stories and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play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lvl="1" marL="746280" indent="-289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Writers throughout the ages have been inspired by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 myths and stories.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lvl="1" marL="746280" indent="-289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dramas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are still performed today all over the world.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340080" y="933480"/>
            <a:ext cx="250488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Theater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124" name="Picture 15" descr="9"/>
          <p:cNvPicPr/>
          <p:nvPr/>
        </p:nvPicPr>
        <p:blipFill>
          <a:blip r:embed="rId2"/>
          <a:stretch/>
        </p:blipFill>
        <p:spPr>
          <a:xfrm>
            <a:off x="5638680" y="3733920"/>
            <a:ext cx="3429000" cy="29350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25" name="Picture 20" descr="TurnTable"/>
          <p:cNvPicPr/>
          <p:nvPr/>
        </p:nvPicPr>
        <p:blipFill>
          <a:blip r:embed="rId3"/>
          <a:stretch/>
        </p:blipFill>
        <p:spPr>
          <a:xfrm>
            <a:off x="6019920" y="1905120"/>
            <a:ext cx="2971800" cy="16732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• 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The first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Olympic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were held in 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   776 B.C.E. to honor the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Greek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    god Zeu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• 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Today’s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Olympic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reflect 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ancient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customs.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-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During the opening ceremony, 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                 an athlete lights the </a:t>
            </a:r>
            <a:r>
              <a:rPr b="0" lang="en-US" sz="2300" spc="-1" strike="noStrike">
                <a:solidFill>
                  <a:srgbClr val="3333cc"/>
                </a:solidFill>
                <a:latin typeface="OptusTReg"/>
              </a:rPr>
              <a:t>Olympic </a:t>
            </a:r>
            <a:r>
              <a:rPr b="0" lang="en-US" sz="2300" spc="-1" strike="noStrike">
                <a:solidFill>
                  <a:srgbClr val="3333cc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3333cc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3333cc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3333cc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3333cc"/>
                </a:solidFill>
                <a:latin typeface="OptusTReg"/>
              </a:rPr>
              <a:t>            flame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OptusTReg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-This custom comes from the time 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                        when the first </a:t>
            </a:r>
            <a:r>
              <a:rPr b="0" lang="en-US" sz="2300" spc="-1" strike="noStrike">
                <a:solidFill>
                  <a:srgbClr val="3333cc"/>
                </a:solidFill>
                <a:latin typeface="OptusTReg"/>
              </a:rPr>
              <a:t>Olympic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 athletes 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300" spc="-1" strike="noStrike">
                <a:solidFill>
                  <a:srgbClr val="800000"/>
                </a:solidFill>
                <a:latin typeface="OptusTReg"/>
              </a:rPr>
              <a:t>       lit a fire on the altar of </a:t>
            </a:r>
            <a:r>
              <a:rPr b="0" lang="en-US" sz="2300" spc="-1" strike="noStrike">
                <a:solidFill>
                  <a:srgbClr val="3333cc"/>
                </a:solidFill>
                <a:latin typeface="OptusTReg"/>
              </a:rPr>
              <a:t>Zeus</a:t>
            </a:r>
            <a:r>
              <a:rPr b="0" lang="en-US" sz="31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381480" y="933480"/>
            <a:ext cx="231732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Sports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129" name="Picture 9" descr="jbc%20olympic%20torch"/>
          <p:cNvPicPr/>
          <p:nvPr/>
        </p:nvPicPr>
        <p:blipFill>
          <a:blip r:embed="rId2"/>
          <a:stretch/>
        </p:blipFill>
        <p:spPr>
          <a:xfrm>
            <a:off x="5105520" y="3886200"/>
            <a:ext cx="3809880" cy="27687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30" name="Picture 11" descr="f108"/>
          <p:cNvPicPr/>
          <p:nvPr/>
        </p:nvPicPr>
        <p:blipFill>
          <a:blip r:embed="rId3"/>
          <a:srcRect l="3838" t="2953" r="11544" b="2363"/>
          <a:stretch/>
        </p:blipFill>
        <p:spPr>
          <a:xfrm>
            <a:off x="152280" y="1676520"/>
            <a:ext cx="3276720" cy="24382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Many modern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Olympic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events grew out of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contests.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lvl="1" marL="746280" indent="-289080">
              <a:spcBef>
                <a:spcPts val="499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One example is the </a:t>
            </a:r>
            <a:r>
              <a:rPr b="0" lang="en-US" sz="2000" spc="-1" strike="noStrike">
                <a:solidFill>
                  <a:srgbClr val="3333cc"/>
                </a:solidFill>
                <a:latin typeface="OptusTReg"/>
              </a:rPr>
              <a:t>pentathlon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lvl="1" marL="746280" indent="-289080">
              <a:spcBef>
                <a:spcPts val="499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The word, </a:t>
            </a:r>
            <a:r>
              <a:rPr b="0" i="1" lang="en-US" sz="2000" spc="-1" strike="noStrike">
                <a:solidFill>
                  <a:srgbClr val="3333cc"/>
                </a:solidFill>
                <a:latin typeface="OptusTReg"/>
              </a:rPr>
              <a:t>pentathlon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, which means “five contests,” comes from the </a:t>
            </a:r>
            <a:r>
              <a:rPr b="0" lang="en-US" sz="20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 words </a:t>
            </a:r>
            <a:r>
              <a:rPr b="0" i="1" lang="en-US" sz="2000" spc="-1" strike="noStrike">
                <a:solidFill>
                  <a:srgbClr val="800000"/>
                </a:solidFill>
                <a:latin typeface="OptusTReg"/>
              </a:rPr>
              <a:t>pente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 meaning "five" and </a:t>
            </a:r>
            <a:r>
              <a:rPr b="0" i="1" lang="en-US" sz="2000" spc="-1" strike="noStrike">
                <a:solidFill>
                  <a:srgbClr val="800000"/>
                </a:solidFill>
                <a:latin typeface="OptusTReg"/>
              </a:rPr>
              <a:t>athlon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 meaning "prize, contest.“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lvl="1" marL="746280" indent="-289080">
              <a:spcBef>
                <a:spcPts val="499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OptusTReg"/>
              </a:rPr>
              <a:t>Greek pentathlon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 included: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lvl="1" marL="746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381480" y="933480"/>
            <a:ext cx="231732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Sports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134" name="Picture 10" descr="art-Panel-HEL-Detail3"/>
          <p:cNvPicPr/>
          <p:nvPr/>
        </p:nvPicPr>
        <p:blipFill>
          <a:blip r:embed="rId2"/>
          <a:stretch/>
        </p:blipFill>
        <p:spPr>
          <a:xfrm>
            <a:off x="228600" y="3505320"/>
            <a:ext cx="2209680" cy="16556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35" name="Text Box 11"/>
          <p:cNvSpPr/>
          <p:nvPr/>
        </p:nvSpPr>
        <p:spPr>
          <a:xfrm>
            <a:off x="762120" y="5181480"/>
            <a:ext cx="121896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footraces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136" name="Picture 13" descr="26_small"/>
          <p:cNvPicPr/>
          <p:nvPr/>
        </p:nvPicPr>
        <p:blipFill>
          <a:blip r:embed="rId4"/>
          <a:srcRect l="3526" t="1112" r="3599" b="1112"/>
          <a:stretch/>
        </p:blipFill>
        <p:spPr>
          <a:xfrm>
            <a:off x="2666880" y="4114800"/>
            <a:ext cx="1551240" cy="24382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37" name="Text Box 14"/>
          <p:cNvSpPr/>
          <p:nvPr/>
        </p:nvSpPr>
        <p:spPr>
          <a:xfrm>
            <a:off x="1066680" y="6041880"/>
            <a:ext cx="160020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discus throw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138" name="Picture 16" descr="javelin"/>
          <p:cNvPicPr/>
          <p:nvPr/>
        </p:nvPicPr>
        <p:blipFill>
          <a:blip r:embed="rId6"/>
          <a:srcRect l="17898" t="0" r="12592" b="9455"/>
          <a:stretch/>
        </p:blipFill>
        <p:spPr>
          <a:xfrm>
            <a:off x="4419720" y="4800600"/>
            <a:ext cx="1904760" cy="17445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39" name="Picture 18" descr="long%20jump"/>
          <p:cNvPicPr/>
          <p:nvPr/>
        </p:nvPicPr>
        <p:blipFill>
          <a:blip r:embed="rId7"/>
          <a:stretch/>
        </p:blipFill>
        <p:spPr>
          <a:xfrm>
            <a:off x="4419720" y="3124080"/>
            <a:ext cx="2533680" cy="14414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40" name="Text Box 19"/>
          <p:cNvSpPr/>
          <p:nvPr/>
        </p:nvSpPr>
        <p:spPr>
          <a:xfrm>
            <a:off x="7010280" y="3200400"/>
            <a:ext cx="1295640" cy="703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long jump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095880" y="6346800"/>
            <a:ext cx="1600200" cy="7038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javelin throw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142" name="Picture 22" descr="ancient_wrestling"/>
          <p:cNvPicPr/>
          <p:nvPr/>
        </p:nvPicPr>
        <p:blipFill>
          <a:blip r:embed="rId10"/>
          <a:stretch/>
        </p:blipFill>
        <p:spPr>
          <a:xfrm>
            <a:off x="6934320" y="4815000"/>
            <a:ext cx="1981080" cy="13572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43" name="Text Box 23"/>
          <p:cNvSpPr/>
          <p:nvPr/>
        </p:nvSpPr>
        <p:spPr>
          <a:xfrm>
            <a:off x="7620120" y="4343400"/>
            <a:ext cx="129528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wrestling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Greeks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invented the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pentathlon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as a test of all-around athletic skill.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Although the five contests are different today, the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pentathlon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is still an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Olympic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event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381480" y="933480"/>
            <a:ext cx="231732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Sports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762120" y="5181480"/>
            <a:ext cx="121896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shooting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066680" y="6041880"/>
            <a:ext cx="160020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fencing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5410080" y="2819520"/>
            <a:ext cx="1295640" cy="70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swimming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095880" y="6346800"/>
            <a:ext cx="160020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riding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151" name="Picture 23" descr="Air pistol shooting"/>
          <p:cNvPicPr/>
          <p:nvPr/>
        </p:nvPicPr>
        <p:blipFill>
          <a:blip r:embed="rId6"/>
          <a:stretch/>
        </p:blipFill>
        <p:spPr>
          <a:xfrm>
            <a:off x="228600" y="3471840"/>
            <a:ext cx="2590920" cy="16336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52" name="Picture 26" descr="Fencing"/>
          <p:cNvPicPr/>
          <p:nvPr/>
        </p:nvPicPr>
        <p:blipFill>
          <a:blip r:embed="rId7"/>
          <a:stretch/>
        </p:blipFill>
        <p:spPr>
          <a:xfrm>
            <a:off x="2743200" y="4495680"/>
            <a:ext cx="1890720" cy="21178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53" name="Picture 29" descr="Swimming"/>
          <p:cNvPicPr/>
          <p:nvPr/>
        </p:nvPicPr>
        <p:blipFill>
          <a:blip r:embed="rId8"/>
          <a:stretch/>
        </p:blipFill>
        <p:spPr>
          <a:xfrm>
            <a:off x="3505320" y="2819520"/>
            <a:ext cx="1828800" cy="13255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54" name="Picture 32" descr="Riding"/>
          <p:cNvPicPr/>
          <p:nvPr/>
        </p:nvPicPr>
        <p:blipFill>
          <a:blip r:embed="rId9"/>
          <a:stretch/>
        </p:blipFill>
        <p:spPr>
          <a:xfrm>
            <a:off x="5486400" y="3657600"/>
            <a:ext cx="1778040" cy="26668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55" name="Picture 35" descr="Running"/>
          <p:cNvPicPr/>
          <p:nvPr/>
        </p:nvPicPr>
        <p:blipFill>
          <a:blip r:embed="rId10"/>
          <a:stretch/>
        </p:blipFill>
        <p:spPr>
          <a:xfrm>
            <a:off x="7454880" y="3200400"/>
            <a:ext cx="1460520" cy="29606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56" name="Text Box 14"/>
          <p:cNvSpPr/>
          <p:nvPr/>
        </p:nvSpPr>
        <p:spPr>
          <a:xfrm>
            <a:off x="7086600" y="2917800"/>
            <a:ext cx="129528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usTReg"/>
              </a:rPr>
              <a:t>running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Socket"/>
              </a:rPr>
              <a:t>Review – The Legacy of Ancient Greece</a:t>
            </a:r>
            <a:endParaRPr b="0" lang="en-US" sz="3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28800" y="990720"/>
            <a:ext cx="7315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Language and Literature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Government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Medicine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Understanding of the Body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Mathematics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Astronomy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Understanding of Plants and Animals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Theater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Sports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159" name="Picture 16" descr="Greek_letter_beta"/>
          <p:cNvPicPr/>
          <p:nvPr/>
        </p:nvPicPr>
        <p:blipFill>
          <a:blip r:embed="rId2"/>
          <a:srcRect l="0" t="0" r="10079" b="50118"/>
          <a:stretch/>
        </p:blipFill>
        <p:spPr>
          <a:xfrm>
            <a:off x="685800" y="1143000"/>
            <a:ext cx="1143000" cy="846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60" name="Picture 17" descr="vote"/>
          <p:cNvPicPr/>
          <p:nvPr/>
        </p:nvPicPr>
        <p:blipFill>
          <a:blip r:embed="rId3"/>
          <a:stretch/>
        </p:blipFill>
        <p:spPr>
          <a:xfrm>
            <a:off x="152280" y="2057400"/>
            <a:ext cx="1206720" cy="10098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61" name="Picture 20" descr="medicine_bottle_5"/>
          <p:cNvPicPr/>
          <p:nvPr/>
        </p:nvPicPr>
        <p:blipFill>
          <a:blip r:embed="rId4"/>
          <a:stretch/>
        </p:blipFill>
        <p:spPr>
          <a:xfrm>
            <a:off x="914400" y="3048120"/>
            <a:ext cx="968400" cy="9903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62" name="Picture 22" descr="image1"/>
          <p:cNvPicPr/>
          <p:nvPr/>
        </p:nvPicPr>
        <p:blipFill>
          <a:blip r:embed="rId5"/>
          <a:srcRect l="9159" t="3219" r="9159" b="5553"/>
          <a:stretch/>
        </p:blipFill>
        <p:spPr>
          <a:xfrm>
            <a:off x="146160" y="3505320"/>
            <a:ext cx="844560" cy="18288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63" name="Picture 23" descr="Mathematical Symbols"/>
          <p:cNvPicPr/>
          <p:nvPr/>
        </p:nvPicPr>
        <p:blipFill>
          <a:blip r:embed="rId6"/>
          <a:stretch/>
        </p:blipFill>
        <p:spPr>
          <a:xfrm>
            <a:off x="152280" y="5410080"/>
            <a:ext cx="1471680" cy="12859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64" name="Picture 25" descr="barspirl"/>
          <p:cNvPicPr/>
          <p:nvPr/>
        </p:nvPicPr>
        <p:blipFill>
          <a:blip r:embed="rId7"/>
          <a:stretch/>
        </p:blipFill>
        <p:spPr>
          <a:xfrm>
            <a:off x="4648320" y="1523880"/>
            <a:ext cx="1752480" cy="10018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65" name="Picture 29" descr="Replogle-pioneer-blue-ocean-gold-base"/>
          <p:cNvPicPr/>
          <p:nvPr/>
        </p:nvPicPr>
        <p:blipFill>
          <a:blip r:embed="rId8"/>
          <a:stretch/>
        </p:blipFill>
        <p:spPr>
          <a:xfrm>
            <a:off x="7162920" y="1066680"/>
            <a:ext cx="1538280" cy="1791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66" name="Picture 36" descr="plants_animals"/>
          <p:cNvPicPr/>
          <p:nvPr/>
        </p:nvPicPr>
        <p:blipFill>
          <a:blip r:embed="rId9"/>
          <a:stretch/>
        </p:blipFill>
        <p:spPr>
          <a:xfrm>
            <a:off x="4572000" y="3276720"/>
            <a:ext cx="2141640" cy="12348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67" name="Picture 40" descr="3"/>
          <p:cNvPicPr/>
          <p:nvPr/>
        </p:nvPicPr>
        <p:blipFill>
          <a:blip r:embed="rId10"/>
          <a:srcRect l="31998" t="17099" r="36754" b="4981"/>
          <a:stretch/>
        </p:blipFill>
        <p:spPr>
          <a:xfrm>
            <a:off x="7848720" y="3048120"/>
            <a:ext cx="1116000" cy="15238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68" name="Picture 41" descr="Atlanta_Flatiron_Building"/>
          <p:cNvPicPr/>
          <p:nvPr/>
        </p:nvPicPr>
        <p:blipFill>
          <a:blip r:embed="rId11"/>
          <a:stretch/>
        </p:blipFill>
        <p:spPr>
          <a:xfrm>
            <a:off x="7696080" y="5105520"/>
            <a:ext cx="1078200" cy="17524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69" name="Picture 43" descr="799sports"/>
          <p:cNvPicPr/>
          <p:nvPr/>
        </p:nvPicPr>
        <p:blipFill>
          <a:blip r:embed="rId12"/>
          <a:stretch/>
        </p:blipFill>
        <p:spPr>
          <a:xfrm>
            <a:off x="4610160" y="5288040"/>
            <a:ext cx="2019240" cy="13572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OptusTReg"/>
              </a:rPr>
              <a:t>Greek contributions:</a:t>
            </a:r>
            <a:r>
              <a:rPr b="0" lang="en-US" sz="2800" spc="-1" strike="noStrike">
                <a:solidFill>
                  <a:srgbClr val="a50021"/>
                </a:solidFill>
                <a:latin typeface="OptusTRe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Medicine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Science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Entertainment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Sports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51" name="Picture 10" descr="Legacies from Ancient Greece Book"/>
          <p:cNvPicPr/>
          <p:nvPr/>
        </p:nvPicPr>
        <p:blipFill>
          <a:blip r:embed="rId2"/>
          <a:stretch/>
        </p:blipFill>
        <p:spPr>
          <a:xfrm>
            <a:off x="4659480" y="1143000"/>
            <a:ext cx="4224240" cy="54864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055320" y="933480"/>
            <a:ext cx="299088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Geography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The work of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astronomer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also contributed to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geography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, the study of the Earth’s surfaces.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The word, </a:t>
            </a:r>
            <a:r>
              <a:rPr b="1" i="1" lang="en-US" sz="2800" spc="-1" strike="noStrike">
                <a:solidFill>
                  <a:srgbClr val="3333cc"/>
                </a:solidFill>
                <a:latin typeface="OptusTReg"/>
              </a:rPr>
              <a:t>geography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, 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 comes from the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word                     </a:t>
            </a:r>
            <a:r>
              <a:rPr b="1" i="1" lang="en-US" sz="2800" spc="-1" strike="noStrike">
                <a:solidFill>
                  <a:srgbClr val="800000"/>
                </a:solidFill>
                <a:latin typeface="OptusTReg"/>
              </a:rPr>
              <a:t>geographia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which means                                 “writing about the Earth.”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To describe where places were,                             they developed a system of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OptusTReg"/>
              </a:rPr>
              <a:t>longitude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OptusTReg"/>
              </a:rPr>
              <a:t>latitude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55" name="Picture 16" descr="Latitude and longitude"/>
          <p:cNvPicPr/>
          <p:nvPr/>
        </p:nvPicPr>
        <p:blipFill>
          <a:blip r:embed="rId2"/>
          <a:stretch/>
        </p:blipFill>
        <p:spPr>
          <a:xfrm>
            <a:off x="5334120" y="2486160"/>
            <a:ext cx="3657600" cy="39909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962800" y="933480"/>
            <a:ext cx="325008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Mathematics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9372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The Greeks loved reasoning and looked for answers to nature’s mysteries in mathematics.  </a:t>
            </a: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One such scientist, </a:t>
            </a:r>
            <a:r>
              <a:rPr b="0" lang="en-US" sz="3200" spc="-1" strike="noStrike">
                <a:solidFill>
                  <a:srgbClr val="3333cc"/>
                </a:solidFill>
                <a:latin typeface="OptusTReg"/>
              </a:rPr>
              <a:t>Pythagoras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, believed that numbers were the key to understanding nature.</a:t>
            </a: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He started a school where students developed                   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mathematical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theories.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   – 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Like many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Greek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, 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Pythagora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was especially 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fascinated by </a:t>
            </a:r>
            <a:r>
              <a:rPr b="0" lang="en-US" sz="2800" spc="-1" strike="noStrike">
                <a:solidFill>
                  <a:srgbClr val="ff0000"/>
                </a:solidFill>
                <a:latin typeface="OptusTReg"/>
              </a:rPr>
              <a:t>geometry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lvl="2" marL="944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       • </a:t>
            </a:r>
            <a:r>
              <a:rPr b="1" lang="en-US" sz="2400" spc="-1" strike="noStrike">
                <a:solidFill>
                  <a:srgbClr val="ff0000"/>
                </a:solidFill>
                <a:latin typeface="OptusTReg"/>
              </a:rPr>
              <a:t>geometry: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the branch of 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mathematics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involving points, 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lines, planes, and figures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59" name="Picture 8" descr="pythag1"/>
          <p:cNvPicPr/>
          <p:nvPr/>
        </p:nvPicPr>
        <p:blipFill>
          <a:blip r:embed="rId2"/>
          <a:stretch/>
        </p:blipFill>
        <p:spPr>
          <a:xfrm>
            <a:off x="228600" y="3886200"/>
            <a:ext cx="3809880" cy="28195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087360" y="933480"/>
            <a:ext cx="297108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Astronomy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How far away are the sun and moon?</a:t>
            </a:r>
            <a:endParaRPr b="0" lang="en-US" sz="2600" spc="-1" strike="noStrike">
              <a:solidFill>
                <a:srgbClr val="000000"/>
              </a:solidFill>
              <a:latin typeface="OptusTReg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How do planets move in space?</a:t>
            </a:r>
            <a:endParaRPr b="0" lang="en-US" sz="2600" spc="-1" strike="noStrike">
              <a:solidFill>
                <a:srgbClr val="000000"/>
              </a:solidFill>
              <a:latin typeface="OptusTReg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OptusTReg"/>
              </a:rPr>
              <a:t>These are the kinds of questions asked by </a:t>
            </a:r>
            <a:r>
              <a:rPr b="0" lang="en-US" sz="2200" spc="-1" strike="noStrike">
                <a:solidFill>
                  <a:srgbClr val="3333cc"/>
                </a:solidFill>
                <a:latin typeface="OptusTReg"/>
              </a:rPr>
              <a:t>astronomers</a:t>
            </a:r>
            <a:r>
              <a:rPr b="0" lang="en-US" sz="22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OptusTReg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OptusTReg"/>
              </a:rPr>
              <a:t>The word,</a:t>
            </a:r>
            <a:r>
              <a:rPr b="0" i="1" lang="en-US" sz="2200" spc="-1" strike="noStrike">
                <a:solidFill>
                  <a:srgbClr val="800000"/>
                </a:solidFill>
                <a:latin typeface="OptusTReg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OptusTReg"/>
              </a:rPr>
              <a:t>Astronomy</a:t>
            </a:r>
            <a:r>
              <a:rPr b="0" lang="en-US" sz="2200" spc="-1" strike="noStrike">
                <a:solidFill>
                  <a:srgbClr val="800000"/>
                </a:solidFill>
                <a:latin typeface="OptusTReg"/>
              </a:rPr>
              <a:t> comes from the </a:t>
            </a:r>
            <a:r>
              <a:rPr b="0" lang="en-US" sz="22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2200" spc="-1" strike="noStrike">
                <a:solidFill>
                  <a:srgbClr val="800000"/>
                </a:solidFill>
                <a:latin typeface="OptusTReg"/>
              </a:rPr>
              <a:t> word </a:t>
            </a:r>
            <a:r>
              <a:rPr b="1" i="1" lang="en-US" sz="2200" spc="-1" strike="noStrike">
                <a:solidFill>
                  <a:srgbClr val="800000"/>
                </a:solidFill>
                <a:latin typeface="OptusTReg"/>
              </a:rPr>
              <a:t>astronomia </a:t>
            </a:r>
            <a:r>
              <a:rPr b="0" lang="en-US" sz="2200" spc="-1" strike="noStrike">
                <a:solidFill>
                  <a:srgbClr val="800000"/>
                </a:solidFill>
                <a:latin typeface="OptusTReg"/>
              </a:rPr>
              <a:t>meaning “star.” </a:t>
            </a:r>
            <a:endParaRPr b="0" lang="en-US" sz="2200" spc="-1" strike="noStrike">
              <a:solidFill>
                <a:srgbClr val="000000"/>
              </a:solidFill>
              <a:latin typeface="OptusTReg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OptusTReg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OptusTReg"/>
              </a:rPr>
              <a:t>Astronomy</a:t>
            </a:r>
            <a:r>
              <a:rPr b="0" lang="en-US" sz="2200" spc="-1" strike="noStrike">
                <a:solidFill>
                  <a:srgbClr val="800000"/>
                </a:solidFill>
                <a:latin typeface="OptusTReg"/>
              </a:rPr>
              <a:t> means the study of stars, planets, and other objects in space.</a:t>
            </a:r>
            <a:endParaRPr b="0" lang="en-US" sz="2200" spc="-1" strike="noStrike">
              <a:solidFill>
                <a:srgbClr val="000000"/>
              </a:solidFill>
              <a:latin typeface="OptusTReg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Once again, the </a:t>
            </a:r>
            <a:r>
              <a:rPr b="0" lang="en-US" sz="2600" spc="-1" strike="noStrike">
                <a:solidFill>
                  <a:srgbClr val="3333cc"/>
                </a:solidFill>
                <a:latin typeface="OptusTReg"/>
              </a:rPr>
              <a:t>Greeks</a:t>
            </a:r>
            <a:r>
              <a:rPr b="0" lang="en-US" sz="2600" spc="-1" strike="noStrike">
                <a:solidFill>
                  <a:srgbClr val="800000"/>
                </a:solidFill>
                <a:latin typeface="OptusTReg"/>
              </a:rPr>
              <a:t> were pioneers in this field.</a:t>
            </a:r>
            <a:endParaRPr b="0" lang="en-US" sz="26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63" name="Picture 13" descr="astronomeroldnice"/>
          <p:cNvPicPr/>
          <p:nvPr/>
        </p:nvPicPr>
        <p:blipFill>
          <a:blip r:embed="rId2"/>
          <a:stretch/>
        </p:blipFill>
        <p:spPr>
          <a:xfrm>
            <a:off x="4530600" y="1600200"/>
            <a:ext cx="4416480" cy="50292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087360" y="933480"/>
            <a:ext cx="297108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Astronomy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  • 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People in all 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      civilizations 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   observed the 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   sun, moon, and 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   stars.</a:t>
            </a: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But a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scientist named 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        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Aristarchu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was the first person to 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    suggest that Earth moves around 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          the sun.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lvl="2" marL="1085760" indent="-228600">
              <a:spcBef>
                <a:spcPts val="601"/>
              </a:spcBef>
              <a:buClr>
                <a:srgbClr val="800000"/>
              </a:buClr>
              <a:buFont typeface="OptusTReg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This idea upset many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Greeks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who believed that Earth was the center of the universe.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67" name="Picture 9" descr="aristarchus"/>
          <p:cNvPicPr/>
          <p:nvPr/>
        </p:nvPicPr>
        <p:blipFill>
          <a:blip r:embed="rId2"/>
          <a:srcRect l="0" t="1831" r="18504" b="0"/>
          <a:stretch/>
        </p:blipFill>
        <p:spPr>
          <a:xfrm>
            <a:off x="6324480" y="1523880"/>
            <a:ext cx="2514600" cy="40388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68" name="Picture 12" descr="The heliocentric model of Aristarchus"/>
          <p:cNvPicPr/>
          <p:nvPr/>
        </p:nvPicPr>
        <p:blipFill>
          <a:blip r:embed="rId3"/>
          <a:stretch/>
        </p:blipFill>
        <p:spPr>
          <a:xfrm>
            <a:off x="228600" y="1143000"/>
            <a:ext cx="2689200" cy="28195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224520" y="933480"/>
            <a:ext cx="269676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Medicine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1447920"/>
            <a:ext cx="4267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For centuries, the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Greek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believed that the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god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goddesse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controlled natural events, including health and sickness.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The earliest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Greeks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thought that illness and accidents were punishments sent by the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gods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OptusTReg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They didn’t know about the natural causes of disease and healing.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72" name="Picture 21" descr="Greek contributions  - Cartoon image for proofing use only, unauthorised reproduction prohibited."/>
          <p:cNvPicPr/>
          <p:nvPr/>
        </p:nvPicPr>
        <p:blipFill>
          <a:blip r:embed="rId2"/>
          <a:stretch/>
        </p:blipFill>
        <p:spPr>
          <a:xfrm>
            <a:off x="228600" y="1676520"/>
            <a:ext cx="4222800" cy="49528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224520" y="933480"/>
            <a:ext cx="269676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Medicine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man named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Hippocrates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 changed the way people thought about health and </a:t>
            </a:r>
            <a:r>
              <a:rPr b="0" lang="en-US" sz="2800" spc="-1" strike="noStrike">
                <a:solidFill>
                  <a:srgbClr val="3333cc"/>
                </a:solidFill>
                <a:latin typeface="OptusTReg"/>
              </a:rPr>
              <a:t>medicine</a:t>
            </a:r>
            <a:r>
              <a:rPr b="0" lang="en-US" sz="28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OptusTReg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OptusTReg"/>
              </a:rPr>
              <a:t>Hippocrates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brought a </a:t>
            </a:r>
            <a:r>
              <a:rPr b="1" i="1" lang="en-US" sz="2400" spc="-1" strike="noStrike">
                <a:solidFill>
                  <a:srgbClr val="800000"/>
                </a:solidFill>
                <a:latin typeface="OptusTReg"/>
              </a:rPr>
              <a:t>scientific</a:t>
            </a:r>
            <a:r>
              <a:rPr b="0" lang="en-US" sz="2400" spc="-1" strike="noStrike">
                <a:solidFill>
                  <a:srgbClr val="800000"/>
                </a:solidFill>
                <a:latin typeface="OptusTReg"/>
              </a:rPr>
              <a:t> way of thinking to his work as a doctor.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OptusTReg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He believed that diseases had natural causes.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OptusTReg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He taught his students to carefully </a:t>
            </a:r>
            <a:r>
              <a:rPr b="1" i="1" lang="en-US" sz="2000" spc="-1" strike="noStrike">
                <a:solidFill>
                  <a:srgbClr val="800000"/>
                </a:solidFill>
                <a:latin typeface="OptusTReg"/>
              </a:rPr>
              <a:t>observe</a:t>
            </a:r>
            <a:r>
              <a:rPr b="0" lang="en-US" sz="2000" spc="-1" strike="noStrike">
                <a:solidFill>
                  <a:srgbClr val="800000"/>
                </a:solidFill>
                <a:latin typeface="OptusTReg"/>
              </a:rPr>
              <a:t> their patients and write down what they saw.</a:t>
            </a:r>
            <a:endParaRPr b="0" lang="en-US" sz="20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76" name="Picture 9" descr="hippocrates"/>
          <p:cNvPicPr/>
          <p:nvPr/>
        </p:nvPicPr>
        <p:blipFill>
          <a:blip r:embed="rId2"/>
          <a:stretch/>
        </p:blipFill>
        <p:spPr>
          <a:xfrm>
            <a:off x="4876920" y="1676520"/>
            <a:ext cx="3394080" cy="50292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50021"/>
                </a:solidFill>
                <a:latin typeface="Socket"/>
              </a:rPr>
              <a:t>Greek Contributions</a:t>
            </a:r>
            <a:endParaRPr b="0" lang="en-US" sz="66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0760" y="1600200"/>
            <a:ext cx="4800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800000"/>
              </a:buClr>
              <a:buFont typeface="OptusTRe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OptusTReg"/>
              </a:rPr>
              <a:t>Our form of </a:t>
            </a:r>
            <a:r>
              <a:rPr b="0" lang="en-US" sz="3600" spc="-1" strike="noStrike">
                <a:solidFill>
                  <a:srgbClr val="3333cc"/>
                </a:solidFill>
                <a:latin typeface="OptusTReg"/>
              </a:rPr>
              <a:t>government</a:t>
            </a:r>
            <a:r>
              <a:rPr b="0" lang="en-US" sz="3600" spc="-1" strike="noStrike">
                <a:solidFill>
                  <a:srgbClr val="800000"/>
                </a:solidFill>
                <a:latin typeface="OptusTReg"/>
              </a:rPr>
              <a:t> was a </a:t>
            </a:r>
            <a:r>
              <a:rPr b="0" lang="en-US" sz="3600" spc="-1" strike="noStrike">
                <a:solidFill>
                  <a:srgbClr val="3333cc"/>
                </a:solidFill>
                <a:latin typeface="OptusTReg"/>
              </a:rPr>
              <a:t>Greek</a:t>
            </a:r>
            <a:r>
              <a:rPr b="0" lang="en-US" sz="3600" spc="-1" strike="noStrike">
                <a:solidFill>
                  <a:srgbClr val="800000"/>
                </a:solidFill>
                <a:latin typeface="OptusTReg"/>
              </a:rPr>
              <a:t> idea.</a:t>
            </a:r>
            <a:endParaRPr b="0" lang="en-US" sz="3600" spc="-1" strike="noStrike">
              <a:solidFill>
                <a:srgbClr val="000000"/>
              </a:solidFill>
              <a:latin typeface="OptusTReg"/>
            </a:endParaRPr>
          </a:p>
          <a:p>
            <a:pPr lvl="1" marL="705600" indent="-271440">
              <a:spcBef>
                <a:spcPts val="799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OptusTReg"/>
              </a:rPr>
              <a:t>Democracy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, or rule by the people, began in </a:t>
            </a:r>
            <a:r>
              <a:rPr b="0" lang="en-US" sz="3200" spc="-1" strike="noStrike">
                <a:solidFill>
                  <a:srgbClr val="3333cc"/>
                </a:solidFill>
                <a:latin typeface="OptusTReg"/>
              </a:rPr>
              <a:t>Athens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  <a:p>
            <a:pPr lvl="1" marL="705600" indent="-271440">
              <a:spcBef>
                <a:spcPts val="799"/>
              </a:spcBef>
              <a:buClr>
                <a:srgbClr val="800000"/>
              </a:buClr>
              <a:buFont typeface="OptusTRe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The practice of having </a:t>
            </a:r>
            <a:r>
              <a:rPr b="0" lang="en-US" sz="3200" spc="-1" strike="noStrike">
                <a:solidFill>
                  <a:srgbClr val="3333cc"/>
                </a:solidFill>
                <a:latin typeface="OptusTReg"/>
              </a:rPr>
              <a:t>citizens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 serve on juries also began in </a:t>
            </a:r>
            <a:r>
              <a:rPr b="0" lang="en-US" sz="3200" spc="-1" strike="noStrike">
                <a:solidFill>
                  <a:srgbClr val="3333cc"/>
                </a:solidFill>
                <a:latin typeface="OptusTReg"/>
              </a:rPr>
              <a:t>Greece</a:t>
            </a:r>
            <a:r>
              <a:rPr b="0" lang="en-US" sz="3200" spc="-1" strike="noStrike">
                <a:solidFill>
                  <a:srgbClr val="800000"/>
                </a:solidFill>
                <a:latin typeface="OptusTReg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OptusTReg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993760" y="933480"/>
            <a:ext cx="3201120" cy="459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Socket"/>
              </a:rPr>
              <a:t>Modern Government</a:t>
            </a:r>
            <a:endParaRPr b="0" lang="en-US" sz="2400" spc="-1" strike="noStrike">
              <a:solidFill>
                <a:srgbClr val="000000"/>
              </a:solidFill>
              <a:latin typeface="OptusTReg"/>
            </a:endParaRPr>
          </a:p>
        </p:txBody>
      </p:sp>
      <p:pic>
        <p:nvPicPr>
          <p:cNvPr id="80" name="Picture 11" descr="the jury"/>
          <p:cNvPicPr/>
          <p:nvPr/>
        </p:nvPicPr>
        <p:blipFill>
          <a:blip r:embed="rId2"/>
          <a:stretch/>
        </p:blipFill>
        <p:spPr>
          <a:xfrm>
            <a:off x="304920" y="4114800"/>
            <a:ext cx="3809880" cy="24433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81" name="Picture 16" descr="vote"/>
          <p:cNvPicPr/>
          <p:nvPr/>
        </p:nvPicPr>
        <p:blipFill>
          <a:blip r:embed="rId3"/>
          <a:stretch/>
        </p:blipFill>
        <p:spPr>
          <a:xfrm>
            <a:off x="685800" y="1600200"/>
            <a:ext cx="2971800" cy="22986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2:20:07Z</dcterms:created>
  <dc:creator>K</dc:creator>
  <dc:description/>
  <dc:language>en-US</dc:language>
  <cp:lastModifiedBy>NYCDOE</cp:lastModifiedBy>
  <dcterms:modified xsi:type="dcterms:W3CDTF">2012-11-06T12:33:00Z</dcterms:modified>
  <cp:revision>147</cp:revision>
  <dc:subject/>
  <dc:title>The Legacy of Ancient Greece</dc:title>
</cp:coreProperties>
</file>